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0CB-3AC6-4851-949E-95F12BBF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BE0-3624-4BDD-9CBF-489A921A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22A3-D3AF-40E3-B5BB-AD45E09C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9253-D152-46D6-839F-A186BDE6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129-8712-4B5E-A172-A41F3FC4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EF82-5CB0-4737-9C69-F8139B0C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196F-B7E5-41D3-A5CF-A3C10052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0A3-D570-49E5-AD6C-C89BBBAD8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1384-98F7-477F-B7FC-3D661B6B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D68-D558-4867-AED2-EAE1AC372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8A23-8663-45C4-B00A-BBDA81281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5DA8-10E3-4816-8435-F27CC374C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F913-B871-4087-B511-267A79321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3E5A-CE83-451C-901B-0E1B3932B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C612-3900-450E-B01D-9681625FA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AE9F-FB9E-4137-87C8-EE8EF116E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6EE8-6626-4374-AD25-3B1B3E7DB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8939-BE3E-4C86-8BAD-0178A0081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B2F2-AB8D-4013-A067-EAC3E30BC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7D44-2C1D-4D73-8C20-4A47BBCEC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3764-4F88-4EAF-B82B-620B37A9C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3ADD-22E9-418B-99F4-D350ABCB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6B456B92-D7AE-45BC-8917-5C725A8D56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2D01D832-435C-4DDD-A0B4-2F94AEBD81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ço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aw a form of the verb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the express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ça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w you will use this verb to talk about going places and to express actions that take place in the immediat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7_01_p118a"/>
          <p:cNvPicPr/>
          <p:nvPr/>
        </p:nvPicPr>
        <p:blipFill>
          <a:blip r:embed="rId1"/>
          <a:stretch/>
        </p:blipFill>
        <p:spPr>
          <a:xfrm>
            <a:off x="1143000" y="3809880"/>
            <a:ext cx="69231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69385B55-8C06-4161-B14F-2472CCFB17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rregular. Only th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v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s resemble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7_01_p118b"/>
          <p:cNvPicPr/>
          <p:nvPr/>
        </p:nvPicPr>
        <p:blipFill>
          <a:blip r:embed="rId1"/>
          <a:stretch/>
        </p:blipFill>
        <p:spPr>
          <a:xfrm>
            <a:off x="1447920" y="2743200"/>
            <a:ext cx="62071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CFD39AFC-29AE-4BC8-AB63-3C4D2F82C5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7_01_p118d"/>
          <p:cNvPicPr/>
          <p:nvPr/>
        </p:nvPicPr>
        <p:blipFill>
          <a:blip r:embed="rId1"/>
          <a:stretch/>
        </p:blipFill>
        <p:spPr>
          <a:xfrm>
            <a:off x="1905120" y="4257720"/>
            <a:ext cx="5333760" cy="221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an also be used with another verb to tell what is going to happen. This construction is called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le futur proc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mmediate futu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. Conjugate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the present tense and place the other verb’s infinitive form directly after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07_01_p118c"/>
          <p:cNvPicPr/>
          <p:nvPr/>
        </p:nvPicPr>
        <p:blipFill>
          <a:blip r:embed="rId2"/>
          <a:stretch/>
        </p:blipFill>
        <p:spPr>
          <a:xfrm>
            <a:off x="1752480" y="3191040"/>
            <a:ext cx="5442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47FB0643-5D78-4B07-B926-A9565CFB63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gate an expression 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 futur pro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lac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ne/n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the conjugated form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7_01_p118e"/>
          <p:cNvPicPr/>
          <p:nvPr/>
        </p:nvPicPr>
        <p:blipFill>
          <a:blip r:embed="rId1"/>
          <a:stretch/>
        </p:blipFill>
        <p:spPr>
          <a:xfrm>
            <a:off x="914400" y="2743200"/>
            <a:ext cx="72010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F1C528D5-FB45-4651-9922-B96F6EE556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construction can be used with the infinitive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ing to 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7_01_p118f"/>
          <p:cNvPicPr/>
          <p:nvPr/>
        </p:nvPicPr>
        <p:blipFill>
          <a:blip r:embed="rId1"/>
          <a:stretch/>
        </p:blipFill>
        <p:spPr>
          <a:xfrm>
            <a:off x="914400" y="2743200"/>
            <a:ext cx="71042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61A55DF5-0107-4663-BB0E-13FB774C10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 preposition 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cts with the definite article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 does not contract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07_01_p119a"/>
          <p:cNvPicPr/>
          <p:nvPr/>
        </p:nvPicPr>
        <p:blipFill>
          <a:blip r:embed="rId1"/>
          <a:stretch/>
        </p:blipFill>
        <p:spPr>
          <a:xfrm>
            <a:off x="1371600" y="3200400"/>
            <a:ext cx="6221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C21F67DA-84A4-4702-B75F-4A26BBD26E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 preposition 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à 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anslated in various ways in Englis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 often indicates a physical location, as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 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habiter 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owever, it can have other meanings depending on the verb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7_01_p119b"/>
          <p:cNvPicPr/>
          <p:nvPr/>
        </p:nvPicPr>
        <p:blipFill>
          <a:blip r:embed="rId1"/>
          <a:stretch/>
        </p:blipFill>
        <p:spPr>
          <a:xfrm>
            <a:off x="1143000" y="3733920"/>
            <a:ext cx="67626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A9757D6E-C726-4FAB-ACBA-C2DAF8BFE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 preposition 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à 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a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en learning a place name in French, learn the preposition that accompanies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07_01_p119c"/>
          <p:cNvPicPr/>
          <p:nvPr/>
        </p:nvPicPr>
        <p:blipFill>
          <a:blip r:embed="rId1"/>
          <a:stretch/>
        </p:blipFill>
        <p:spPr>
          <a:xfrm>
            <a:off x="1219320" y="3429000"/>
            <a:ext cx="67053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A6E296FD-84F0-4E48-8E24-F12EA6166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essayez"/>
          <p:cNvPicPr/>
          <p:nvPr/>
        </p:nvPicPr>
        <p:blipFill>
          <a:blip r:embed="rId1"/>
          <a:stretch/>
        </p:blipFill>
        <p:spPr>
          <a:xfrm>
            <a:off x="547560" y="1447920"/>
            <a:ext cx="80488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685800" y="2286000"/>
          <a:ext cx="7772400" cy="35971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64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ça ______________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______ à la piscine pour nage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______________ au centre-vill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______ bavarder au café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______ aller au restaurant ce soir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______________ aller à l’église dimanche mati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oir, je ______________ danser en boît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ne ____________ pas passer par l’épicerie cet après-midi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44"/>
          <p:cNvSpPr/>
          <p:nvPr/>
        </p:nvSpPr>
        <p:spPr>
          <a:xfrm>
            <a:off x="893880" y="160020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tilisez la forme correcte du verbe all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4"/>
          <p:cNvSpPr/>
          <p:nvPr/>
        </p:nvSpPr>
        <p:spPr>
          <a:xfrm>
            <a:off x="3124080" y="228600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19T02:33:50Z</dcterms:modified>
  <cp:revision>30</cp:revision>
  <dc:subject>Structures 7.1</dc:subject>
  <dc:title>PROMENADES</dc:title>
</cp:coreProperties>
</file>